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85C57-BF45-4725-B644-7325D91BE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1F4EC-92AC-46A2-862D-4B1FDAF82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E5256-6CA8-4A8A-9F42-CB9019477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91876-687E-41B0-BC9E-4C0AA7D19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2222E-7195-4A12-AFBF-2AA13847D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2786E-632B-4A25-A262-6F60FC2EB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61ABC-F4E6-4282-B3B8-F6E392166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D91B4-A3B7-44F6-82B2-A31D4CD31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993B9-3910-4F48-B3D8-5CD4B2B1F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20213-A928-408D-96D4-B8DC52544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AB553-ACFA-42FF-B208-A1A0F226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A2400-AFFB-4BED-BD15-8CBBA7B59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B2C6-AD5B-4B7F-BE69-777306709B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Curious Incident of a Dog in the Nightt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Major Character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hristopher John Francis Boone – Main Character</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d Boone- Christopher’s father whom Christopher lives. Kills Wellington</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udy Boone- Christopher’s mother. Lives in London.</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r. Shears- Lives with Christopher’s mother.</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rs/Miss Shears- Neighbor of Christophers. Owner of Wellington.</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iobhan- Christopher’s special teacher.</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rs. Alexander- Another neighbor of Christophers. Tells Christopher about his mothers affair with Mr. Sh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Basic Plot</a:t>
            </a:r>
            <a:endParaRPr b="0" lang="en-US" sz="4400" spc="-1" strike="noStrike">
              <a:solidFill>
                <a:srgbClr val="000000"/>
              </a:solidFill>
              <a:latin typeface="Arial"/>
            </a:endParaRPr>
          </a:p>
        </p:txBody>
      </p:sp>
      <p:sp>
        <p:nvSpPr>
          <p:cNvPr id="4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ristopher discovers the dead body of Wellington in Miss Shear’s yard stuck by a garden fork, and decides to investigate. Christopher writes his experiences in a book, titled The Curious Incident of the Dog in the Night-time.</a:t>
            </a:r>
            <a:endParaRPr b="0" lang="en-US" sz="2000" spc="-1" strike="noStrike">
              <a:solidFill>
                <a:srgbClr val="000000"/>
              </a:solidFill>
              <a:latin typeface="Arial"/>
            </a:endParaRPr>
          </a:p>
          <a:p>
            <a:pPr marL="335880" indent="-335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He talks to neighbors along the way about Wellington and talked to Mrs. Alexander. She tells him that Mr. Shears, who used to live in the house across the street had an affair with his mother whom he believed had died of a heart attack three years ago. Christopher’s dad finds his book, read the section about the affair and forbids him to continue writing.</a:t>
            </a:r>
            <a:endParaRPr b="0" lang="en-US" sz="2000" spc="-1" strike="noStrike">
              <a:solidFill>
                <a:srgbClr val="000000"/>
              </a:solidFill>
              <a:latin typeface="Arial"/>
            </a:endParaRPr>
          </a:p>
          <a:p>
            <a:pPr marL="335880" indent="-335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ile searching for the book, Christopher discovers a series of letters from his mother which his father had also concealed. They were dated after he thought she had died. He concludes that she is still alive and that his father had lied to him. Christopher’s dad admits hiding the death of his mother and that he killed Wellington because he was mad at Miss Shears and his former wife. Christopher then fears that his father may try to kill him and so he runs away to London and life with his m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Plot II</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e finds his mother and spends a few days with her before his father finds him. It is decided that Christopher will move back with his mother so that he can do A level math. Christopher lives with both of his parents for a little while and then moves into an apartment with his mother a few blocks away from his old hou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Review Questio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 is Christopher’s disorder?</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 is the dog’s name?</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ose dog is killed?</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 is Christopher’s rat’s name?</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re does Christopher live with his father?</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ow does he determine a good day? A bad da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Review Questions II</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 colors does Christopher hate? Love?</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o is Siobhan?</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 math is Christopher in?</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 does Christopher do immediately after he finds the letter?</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Explain Christopher’s “hug” with is 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Question Answer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rger's—form of Aut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ing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Sh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el,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 Cars/ Yellow C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Question Answer II</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llow &amp; Brown/ 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Ed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ws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uch Finger ti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3:35:35Z</dcterms:created>
  <dc:creator>User</dc:creator>
  <dc:description/>
  <dc:language>en-US</dc:language>
  <cp:lastModifiedBy>DU</cp:lastModifiedBy>
  <dcterms:modified xsi:type="dcterms:W3CDTF">2006-10-11T13:29:01Z</dcterms:modified>
  <cp:revision>4</cp:revision>
  <dc:subject/>
  <dc:title>Curious Incident of a Dog in the Nighttime</dc:title>
</cp:coreProperties>
</file>